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76409"/>
        <c:axId val="50158198"/>
      </c:barChart>
      <c:catAx>
        <c:axId val="4667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8198"/>
        <c:crosses val="autoZero"/>
        <c:auto val="1"/>
        <c:lblAlgn val="ctr"/>
        <c:lblOffset val="100"/>
        <c:noMultiLvlLbl val="0"/>
      </c:catAx>
      <c:valAx>
        <c:axId val="50158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7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5EA-56A6-49A5-B437-8C3B4E93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E8C-A758-40CA-874C-7C987E4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B6C-8E7A-4EC0-8E73-C5E5DE0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19B-4736-4742-B5A0-452EA86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689-7291-4559-9104-15882A0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96D-4D4D-493E-94DB-7C88F74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3C3-249F-4833-9C1B-DA5A797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668-E893-425C-A26E-A8E97698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6A9-3E7F-413E-890C-C5E4F0F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AAB-1AA4-49E9-8484-98F3382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C69-7FC8-4D06-818C-0FE4E59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037-BA30-4C62-9A56-5A985498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4A77-01BF-4FDE-9EDE-BDC4E90A1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