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52924"/>
        <c:axId val="79918626"/>
      </c:barChart>
      <c:catAx>
        <c:axId val="20852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18626"/>
        <c:crosses val="autoZero"/>
        <c:auto val="1"/>
        <c:lblAlgn val="ctr"/>
        <c:lblOffset val="100"/>
        <c:noMultiLvlLbl val="0"/>
      </c:catAx>
      <c:valAx>
        <c:axId val="79918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2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7BB-CA98-4D1B-9FFD-B2631642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012-F0A7-4B74-8F2F-B921963F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879-86D2-4DBC-9523-E20FAA4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D9C-BE22-41BC-886F-8DEE7C17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B3E-CD8E-4E7B-8EFC-A3F23F8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794-3052-40FC-B50F-25F33B1E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8FD-7F64-483D-B0FA-513DF118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6F0-32F1-4D5F-9D24-582A2438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4B6-0A2E-463E-A781-C96FF72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8B0-0E15-44E0-ABFE-D3F78628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1F-BCC9-48C8-BA5E-44DB1C9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5F8-C2A6-4F03-8EEA-AC18276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42BB3-5EAF-44FB-919B-16A7DBEEE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