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27780"/>
        <c:axId val="39577128"/>
      </c:barChart>
      <c:catAx>
        <c:axId val="10327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77128"/>
        <c:crosses val="autoZero"/>
        <c:auto val="1"/>
        <c:lblAlgn val="ctr"/>
        <c:lblOffset val="100"/>
        <c:noMultiLvlLbl val="0"/>
      </c:catAx>
      <c:valAx>
        <c:axId val="39577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27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120-505C-47E3-A24E-61AB4C8C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DA2-6126-4BFC-BE00-36F4D5FD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6EA-D102-49B1-AF1B-E24565D3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D37-1C57-4B90-BA8A-8AE669D6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9FF-00EA-40A9-A420-D98BF2D5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AE0-1DC2-48D0-86EA-7A016A62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51B-8CC5-4E1C-A35A-A112584D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880-7066-483C-9176-DA006E75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568-A192-49E9-80B8-987A58EA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0E1-165B-499F-A9A3-8F07A7F3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10E-0FED-4770-A47F-A08DB173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8A7-B887-4A38-96E5-C1CE7505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41B01-5AEE-4EF8-9609-8EB46277E8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