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12338"/>
        <c:axId val="28481027"/>
      </c:barChart>
      <c:catAx>
        <c:axId val="24512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81027"/>
        <c:crosses val="autoZero"/>
        <c:auto val="1"/>
        <c:lblAlgn val="ctr"/>
        <c:lblOffset val="100"/>
        <c:noMultiLvlLbl val="0"/>
      </c:catAx>
      <c:valAx>
        <c:axId val="28481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12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77F-5D1F-4C87-A725-AB65FA56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198-F7A6-44A4-BC55-042A57FD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9AD-9F43-41E6-A438-590D606D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A99-F920-4BA6-9D11-50BAF7E4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86B-891F-4C84-8D02-2EF91F0A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F99-285D-4685-9632-900C889C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C56-E1B6-41E4-99A1-17DEE371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6B2-43A2-4992-9C1A-45C89CA2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9A6-F3ED-491C-99AD-F0666EC5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698-FD8E-4BAD-9E9C-10474223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6A1-C2C8-428A-B8D8-1F3E734B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B6F-68AE-4249-9851-FB59C789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B8D8B-B24C-445A-8071-8B50DAC7A1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