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06258"/>
        <c:axId val="27865018"/>
      </c:barChart>
      <c:catAx>
        <c:axId val="57006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5018"/>
        <c:crosses val="autoZero"/>
        <c:auto val="1"/>
        <c:lblAlgn val="ctr"/>
        <c:lblOffset val="100"/>
        <c:noMultiLvlLbl val="0"/>
      </c:catAx>
      <c:valAx>
        <c:axId val="27865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6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943-AF98-416C-BCED-C56C3A09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110-9F00-4C69-85B8-D5693444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7AE-3F83-4A3A-9838-B38E313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51A-3B49-44F0-B454-3C603526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ECB-F95E-4AF4-A2E1-2D3B0BE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C23-82FE-4A2E-9784-8EF4614D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B3F-7220-4B56-A1B1-F8E74C7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7A7-A2F4-4D98-82F0-C8966B0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17B-F461-47EC-BB15-2FC2A4D6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B5B-C0A1-47C1-8863-E12921E5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9FB-AD11-467B-BE5B-87447015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382-8241-4FED-9DCF-726D195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790C-5975-4C9E-B8E5-13BE1DEEB5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