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10980"/>
        <c:axId val="92793253"/>
      </c:barChart>
      <c:catAx>
        <c:axId val="87210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93253"/>
        <c:crosses val="autoZero"/>
        <c:auto val="1"/>
        <c:lblAlgn val="ctr"/>
        <c:lblOffset val="100"/>
        <c:noMultiLvlLbl val="0"/>
      </c:catAx>
      <c:valAx>
        <c:axId val="92793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10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FF3-B4DD-4162-AC0C-3A6FF6A3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E9A-C38A-457B-A535-B03B6C15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953-21AA-4D50-8285-CFB24F85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285-D78C-43E5-9A58-C3B41F80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E11-9612-4F9A-8F88-EA84631A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2E8-AEFB-4E35-B5F0-800F6BCE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E8A-6E3C-4FCA-828E-E3C8CF81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57B-F6A5-46C5-89C4-26CA99C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7AB-C820-43BD-9467-BA62732F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37E-1C2F-491F-B94E-8303D378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844-472B-4C72-A618-D7AC5605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ECD-3F47-4B60-A94B-E1401CD6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E51DE-D5E3-4FB8-8152-8A08FDAA8C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