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AE15F08-D4A3-454C-9621-6C9A694C3737}"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08D7922-322E-465F-90AF-25521142227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59F536A-D9CF-4350-83F9-B3041599757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4A1249D-689B-4CB8-B85F-7A89B923C5B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CC8B770-FFAF-4FFF-A3E0-0512DC1E0C1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6FD5254-4406-47D5-8BA1-1E5EC81E712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4CFAAE3-84D4-41A4-9385-68895590A06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DE1E748-F6A6-4464-8FF1-D5A7D827FE5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9BD816E-4DF6-4658-A3BD-C2811058EFE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E7AC211-4424-4209-A9AF-81F66A48E9B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19567A7-21CF-4A6B-9A36-61214742CBC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19F6301-F6EA-4B47-BEEE-6D2E1887845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D3E8AC8-E9E3-4AFB-914C-66F16476380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AF76303-2FD5-436F-B779-FA88DF00CA9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A4E5CFA-9FB4-48C8-BFFE-C3ED378A5D5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FF6CEAC-1E11-42C9-B46D-45AFE79F42E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13E5189-809B-40B2-8A6F-878840C82A9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7C1180B-437B-4853-83D5-4A3F6A5CAAE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29BBB46-1940-48B4-8B53-8ED59BAA498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DE3E5E4-234E-4583-BE21-713AC3CC878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73C1CAD-B0A5-4FB6-9C56-8504125215E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C0843C8-7C68-4EBA-A0B5-48BE2D0DB71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1221213-81B3-438F-88DF-62E66D6F39E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F85C643-C061-4961-BC14-84D3CBE33C2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F1DA81F-50F6-4FFF-8318-FE141F28996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05C5FDF-1D20-4F25-B0CE-7C443B30E2A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BA9D0-8D83-43B6-BC6C-1B59EDEE4FC6}"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1CFF7-E906-4548-8355-FB6C775A98CE}"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FB5F776-FF0A-45B9-9CC4-14A97E080F78}"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845E61B-E1B4-4B67-A197-3FDD4B24A428}"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B405E61-21DE-4C5D-A83E-CC04ACE181E5}"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CE4A85C-23F4-4125-A854-8A9041FFC76B}"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BA8287E-3CE7-44C9-B594-02FFECB8A358}"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E515DAF-6464-4FD9-811B-EBD3AD2D307C}"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6E4157A-CE49-4A13-8013-37947CF8EF6A}"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8111E39-BC07-42A7-97CD-141EAF06EB93}"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78C98F0-7678-4618-A5A3-2A63B7850B9A}"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FF0C887-4F7B-4697-AEFA-84B11DF471CC}"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306D3AC-4FC9-4191-8D40-36F275E8EF42}"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6220681-404B-426D-9E9F-CAF6BBF64991}"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23EA5AF-E3A6-400A-AE82-6529D453D0FB}"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35009AD-8EBC-4B0F-9FA8-9B57DDDAC661}"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07A9781-B336-438B-BB22-1CCED0575515}"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01F88DB-C493-46F6-98CC-0E1F7285A94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648AB79-F7DE-4222-8077-E1092F1D84F6}"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02F7876-7BFA-4293-AC32-6B19BF61550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0EF02845-C1A4-4623-A08D-98202563CC4F}"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44F3EC6-3BCD-4072-A4C9-10F860D7F682}"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D92BE7F-C2C9-4CD8-A0A0-A7B119384ED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5D23F0A-BACB-429B-8D69-C51CD38E615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F21EEDD-CE81-4FD6-81FC-4EE50C8B6850}"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ADDE985-E013-4887-A753-78B5BC3708D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F302592-7894-4C52-92FD-AABCCBC7D95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0846769-F574-4211-9A6A-F16382E3759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7B10867-D372-46A8-A4DE-55993F6027F1}"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C3619E5-21B4-457F-AC59-4C7D813DBC0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3D2820A-FC0C-4A75-9F81-49D0E684E85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519E171-4CEF-4D15-8BA6-B047642EE7A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499F8FD-E4AA-4E96-BDB8-3E6FA75FBB15}"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5AE3EEA-5BBE-4CFC-8BBD-C7937136F21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F3E7356-173C-4053-B68A-95A90880072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1D44BA6-86F4-4AA6-8827-FACACFFF28AF}"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2A5D587-A3CA-426F-A8B1-EB2D72C1420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AD77734-1D69-46BD-9052-C8A7F983208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86BBBEC-F6C4-4537-88A4-2096465B3A0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8008808-F583-4AC9-9AEA-6A2CDEB73D3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8EB1F3A-CC1D-4128-8D7D-09B5A7F5CDCC}"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0235043-6ADD-473B-BB19-15DFC73E0C45}"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00CE7D9-B686-459C-8A87-E99CE682719B}"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1A0137F-D0C1-4E0B-9F22-3F5CC29917F6}"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385CD98-CF5B-47FA-8BA1-F38398C6E1BB}"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F5D1570-BB17-4FB8-AEA8-F81651D61A7F}"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E03CA98-CBD7-42C2-AE81-6A59D8478ED6}"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D6EEB5E-3E93-4158-B2D4-D1D9F1A62F11}"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9413C11-7D53-435D-9E14-56F774191B6E}"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DA23251-4DB0-4C0E-875F-426AD679E477}"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FB3A00D-FBD7-4EF7-966B-5DB17DEEF57A}"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A4323CD-958D-4F22-9FD9-29F935CA7A33}"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10F860D-C30C-45A4-8844-C8761938A991}"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F0897C3-C819-4C69-B084-C333C2FE92DD}"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4A84381-CD45-4F3F-9209-19861E81BBA0}"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1B279EF-EE25-460E-A849-82DE5877A04A}"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A20D69B-DBCF-430A-BD11-CBD7282E9ECA}"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50DBCB0-7E5A-45C1-87BA-EC5BE60B40CA}"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BB172D8-05D3-434F-8C81-CA49DAF6CC74}"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5417ADA-A69C-4BB0-A3A1-B6E637CA8410}"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F90E825-D018-4E3D-85BD-CCE1276F840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E479C63-7373-4BE5-A500-79B099BA425C}"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58EDD66-1011-4995-859B-0D1EEC61FEA4}"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C9594A7-D16E-4C9F-9FB8-0D5C5416978B}"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ADEEC9A-C4E1-4817-95ED-0757E09A76C2}"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3A22353-40CE-4864-B093-9F5ACAC23A73}"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4F6A4A6-BFA7-4808-8A3A-343A3F3E594C}"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4C22D20-353F-435C-8674-367456616276}"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9EDB0DF-340C-410C-9CAA-66E7A7CD5A07}"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1D8A562-49DA-4C88-9AA8-D20A0DB37D29}"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BCFAF24-CA19-4A58-AA02-CA3FB17F13F8}"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2675458-BBD8-465F-8BA9-D62787585A71}"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41329AE-26B7-4935-B4B1-62DAF0690C0F}"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8E07ACE-4DAE-4FD3-8B8E-3DE031A77A4E}"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21A4F81-3898-45BA-B27D-FB00F328A1EB}"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3AE92B2-7052-4C8A-8BBF-992096029BFF}"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893F1BB-87BC-4C6F-980B-1A04AF5C4F15}"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F73E0B0-C02F-460D-B892-63BEBBECD4D9}"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788A91B-0345-41CE-9AD3-B6E4E4D22763}"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BA3237B-2C71-4853-84BC-1E77FA93331C}"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8A53C67-EFCE-4FFE-8736-1A492E128834}"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439BD88-F377-450F-BF82-F1623EF5F2F5}"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D2019E3-DBB6-45B1-85D2-AF95649387DE}"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68DB5A6-99DB-4AB0-8B87-3D2AB8EDFF36}"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FA90156-6313-455B-966F-53DC209F1F2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79B451F-78D6-4F71-AA79-5EB8B78FDC7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2C699D6-1EAE-4CA0-837E-779EBCFB079E}"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91560CA-6885-46EB-BB0E-E94F5A944CCD}"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B751DD4-B9CE-4D0D-A35D-0B540CD03186}"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6CCE266-6CA9-4FE6-9CE3-DC7369E6C452}"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B07B724-27BC-4583-B01A-C11EDCD66B56}"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68047A5-A6D8-4580-8895-E5B3DDD623DA}"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56982C0-376F-4131-8665-30D591C38DC1}"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B3343B9-F4DF-46F9-AB2A-FE295B9C974F}"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7D6C2E8-83E9-4231-A90A-C8B0F688DDE8}"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FA3F142-F190-4199-9BDD-3F7524D6739E}"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D650FAF2-F6EF-4DCB-B422-5071682CB849}"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FC02FBF-1CF3-47AF-A75C-E36CA61E84D5}"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F6D1354-A2D7-424E-BE8F-2D74F33154FC}"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D3E3AE6-BE91-4A0E-B160-86A71AF8E7AF}"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183B81D-7567-47C1-80E3-ABD301A1DC69}"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470094E-D58B-4349-B323-CE7CD70487DD}"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2DFF5CD-8DB1-409E-A0CC-F0BECCE052F5}"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477A9A2-1EBF-491D-80D9-41F1BB3A7508}"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8CDF30F-0387-4F19-86EA-8089D5C75FF0}"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2EC8F04-D1B9-4B49-BA71-82B90312BDD8}"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E1501B3-7885-4DA1-B26D-EDF3F7B5DE94}"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B8B285D-C3D3-42E5-A859-E0E51F3D804E}"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008B5D2D-4295-42E2-A3B0-7194A9F05A1D}"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C3BE9D2-2148-4A40-846F-16058BF9E63D}"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00DA3B8-9F82-46F3-9C53-CF8F7E7A0EFE}"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1F1EF6F-D3CA-435F-8B23-74C401A5C832}"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2F96AA5-F4FE-43F0-9F04-3706D9C46F64}"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95DC6B8-9AEF-42EA-8219-399165614814}"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