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69838"/>
        <c:axId val="52687708"/>
      </c:barChart>
      <c:catAx>
        <c:axId val="62169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87708"/>
        <c:crosses val="autoZero"/>
        <c:auto val="1"/>
        <c:lblAlgn val="ctr"/>
        <c:lblOffset val="100"/>
        <c:noMultiLvlLbl val="0"/>
      </c:catAx>
      <c:valAx>
        <c:axId val="52687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9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278-2F04-4ECA-A3C0-A1721A41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738-4FDC-4926-A77A-E9F2EA9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D41-4257-4F57-816F-FFD8A860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380-7A79-4E21-8B1E-D233411D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969-F7A8-473A-B271-5CE7FFA3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751-E96C-483D-A01D-3EA9F3E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D2A-41B7-43DB-B885-83D07F4A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393-241E-4C5D-BFA0-05528957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973-7352-4BB4-8D60-235DA9B5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584-5F52-4256-AD69-0668B07A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511-3908-46AE-9A63-55AC148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D0C-D0D2-4DDF-B85F-37F07418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B7DC7-5AF5-41E4-851F-7216EF6FBB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