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34187"/>
        <c:axId val="68754895"/>
      </c:barChart>
      <c:catAx>
        <c:axId val="48634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54895"/>
        <c:crosses val="autoZero"/>
        <c:auto val="1"/>
        <c:lblAlgn val="ctr"/>
        <c:lblOffset val="100"/>
        <c:noMultiLvlLbl val="0"/>
      </c:catAx>
      <c:valAx>
        <c:axId val="68754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34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C3F-0611-40FD-A6EB-B68EBCD3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F75-D8DA-4785-BFF2-2A13E8FE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DCB-8239-42EE-9A87-4480E865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1D8-138F-4214-9337-7066CF81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3E7-F39F-4982-A63C-60AABF29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534-90B8-4012-BE62-12D13475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ABA-5AF6-4BE6-9FDE-132D99CF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3CF-390A-4B8B-A63F-B6BCF38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1AE-F25F-4AC1-A134-3F424D0B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A4F-4C3D-458F-91D3-D1B39CE1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D00-6973-43E5-BDAE-E0FC27E4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2BD-B9D0-44C8-8D94-DB9BEAE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F7EEC-67DD-4C73-8B92-7B93AC3AB0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