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354963"/>
        <c:axId val="80967168"/>
      </c:barChart>
      <c:catAx>
        <c:axId val="703549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967168"/>
        <c:crosses val="autoZero"/>
        <c:auto val="1"/>
        <c:lblAlgn val="ctr"/>
        <c:lblOffset val="100"/>
        <c:noMultiLvlLbl val="0"/>
      </c:catAx>
      <c:valAx>
        <c:axId val="809671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3549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3BBF-6343-446E-9296-0034D2CEE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D96F-BE3F-46AF-9E44-023E9FEBE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B608-2F13-40E4-8E95-B6BF7FACE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EF8C-B040-48DB-B41A-100502ABC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140B-42CF-4F7E-9C80-644D424F2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D6D0-2AB8-4EF3-8012-95C1CE752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9C11-617F-4E22-A9E0-FDD7022E3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2091-FC90-41E1-BDC8-C6262244F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970C-1EE7-4A03-86BA-BFE074E38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C597-D815-429F-9B53-9ECDB143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A2DD-0974-4B09-A818-C5E2E621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8F65-7FC4-422F-A59B-4D587856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7D189E-72BB-44A4-A98F-24A4808D26F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