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50829"/>
        <c:axId val="2268193"/>
      </c:barChart>
      <c:catAx>
        <c:axId val="82850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193"/>
        <c:crosses val="autoZero"/>
        <c:auto val="1"/>
        <c:lblAlgn val="ctr"/>
        <c:lblOffset val="100"/>
        <c:noMultiLvlLbl val="0"/>
      </c:catAx>
      <c:valAx>
        <c:axId val="2268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0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CBC-9830-4BD8-9D95-BEDEEAAA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F23-BB14-40EB-BE7D-454FF17A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BB1-20EE-44B2-9901-549936B0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CD2-F897-48B9-AC2E-7B905F21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27A-E4EE-4953-AE8F-5317721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28-232F-494D-A4EF-F70272E5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57D-76AD-4117-9134-0C1A837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BCC-F2E1-406C-981D-8FF61607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C6B-915E-40DE-BFA2-270912CC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F4F-8062-48B2-9C7F-5C2A3FD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F6F-8102-450C-82C0-A62CB79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D3D-83F2-4680-8417-44B241F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2D08-4ECE-40C8-B3D6-53DE16C984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