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48074"/>
        <c:axId val="23024002"/>
      </c:barChart>
      <c:catAx>
        <c:axId val="51448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24002"/>
        <c:crosses val="autoZero"/>
        <c:auto val="1"/>
        <c:lblAlgn val="ctr"/>
        <c:lblOffset val="100"/>
        <c:noMultiLvlLbl val="0"/>
      </c:catAx>
      <c:valAx>
        <c:axId val="23024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48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8C3-0109-4146-8B42-5F586316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387-18E2-4058-B1CF-F8E759C1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8F6-6CE8-4B07-B014-C1E462EE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C1D-D947-44AF-9BF7-BF4D8E60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B7B-E285-42AC-B835-4C24F3A6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7D2-7D90-4866-8980-ABD6E467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F24-F67A-4905-89C6-00D7C6D0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FB7-5E99-4BA1-AA04-F5A7DBE0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F02-4EEE-4FB0-BF36-FDB1DCF2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E9F-5037-43CF-91BD-26780C82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A3E-DB16-498C-A2D4-8CDB6076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331-5BA9-4555-81EA-DEA08A58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A49F8-37F7-4ED5-B6D8-DB483D5C24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