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216798"/>
        <c:axId val="86192258"/>
      </c:barChart>
      <c:catAx>
        <c:axId val="922167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192258"/>
        <c:crosses val="autoZero"/>
        <c:auto val="1"/>
        <c:lblAlgn val="ctr"/>
        <c:lblOffset val="100"/>
        <c:noMultiLvlLbl val="0"/>
      </c:catAx>
      <c:valAx>
        <c:axId val="861922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167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81F3-F633-4921-A801-2F5592C7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AE36-7734-4814-82AD-4450DA05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A970-7FDE-4AAC-9CE5-BD0D3585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DA24-480C-4847-B484-B6D690571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97E6-E92C-4E3C-89FA-588230B8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2B4B-ADE8-4227-8D9E-2A6080F4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5296-2392-41AB-A454-22B28382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6413-A3AA-4957-81D5-1EB660F4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CC51-11CC-40AE-AA59-715CFADC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B41F-EE29-4678-BBC9-B804FC0F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0300-3797-4B10-AD44-D74F9AB2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C0AB-60EA-4886-B094-558FD766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1BF33-AE2C-4912-857E-CCD4B3014C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