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43317"/>
        <c:axId val="23098176"/>
      </c:barChart>
      <c:catAx>
        <c:axId val="40743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98176"/>
        <c:crosses val="autoZero"/>
        <c:auto val="1"/>
        <c:lblAlgn val="ctr"/>
        <c:lblOffset val="100"/>
        <c:noMultiLvlLbl val="0"/>
      </c:catAx>
      <c:valAx>
        <c:axId val="23098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43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DB72-4432-4DE1-8EFF-5E00E640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9FBF-2753-4B99-8209-CFB5C34F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C46-F370-4C2F-9561-2D5DA96C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3D4-EA47-4F0A-A7FD-D9560261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2F7-244C-454B-A4EB-2EEF5ABB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B338-E678-4D45-A784-5555629E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E28-5313-4189-B10A-E49C0EAA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F85C-E73C-491B-8778-2801D4F5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6CE0-C95B-4697-8F9A-C6C25CEB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7B34-E5E2-49C7-BE4D-26164616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B0F4-CAA8-4EBE-9D54-5A2F153A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03B-EA92-4883-A52D-30077E30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2CA2D-A3F4-4E6F-8ED5-64F6DF72B6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