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50548"/>
        <c:axId val="14620678"/>
      </c:barChart>
      <c:catAx>
        <c:axId val="93550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20678"/>
        <c:crosses val="autoZero"/>
        <c:auto val="1"/>
        <c:lblAlgn val="ctr"/>
        <c:lblOffset val="100"/>
        <c:noMultiLvlLbl val="0"/>
      </c:catAx>
      <c:valAx>
        <c:axId val="14620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50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778-AE59-408B-B53A-8780EB62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57F-AC0C-436B-8A05-640440B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1D5-B947-40B4-A4EA-B9CFE522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BA8-DA73-476A-9D08-45C0887A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8B3-0331-4429-8578-024F3A1C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82-525F-48A5-B3B6-04787410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43D-96B6-4E3F-AAFA-4427829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763-8831-4121-9587-EC53C6F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5D1-BBEE-4BB9-9E4E-35ECC588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5E8-10E4-4F06-8E94-1F4ADAC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EBD-E076-478B-9CF0-25C7F2C7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B4A-2BD2-4288-B8DF-5081D51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E6865-B710-4A06-9492-1B4EE994FE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