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60800"/>
        <c:axId val="72550795"/>
      </c:barChart>
      <c:catAx>
        <c:axId val="54660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50795"/>
        <c:crosses val="autoZero"/>
        <c:auto val="1"/>
        <c:lblAlgn val="ctr"/>
        <c:lblOffset val="100"/>
        <c:noMultiLvlLbl val="0"/>
      </c:catAx>
      <c:valAx>
        <c:axId val="72550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60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D03-44C2-41F9-AE03-C5F3E630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AA5-6A23-4E9C-A81E-3934E2E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D6A-DD42-49B4-A7AB-A4E9A48D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23E-747D-45F7-B136-97A34916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4D9-0EF7-4852-AA09-21298098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9C3-2EE6-45F0-B413-200A4185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230-B7B0-4209-9E4D-580FCB3E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74D-177D-445D-A40B-00E8C0B8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B74-11CF-411A-8368-CC7DA3B6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4EE-92CA-48D1-B350-F0B4703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365-63BF-4121-85E4-0C6C779D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66D-D3B6-48FC-BC39-D66D1F7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69128-8D3F-4126-A644-E280402DC4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