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242058"/>
        <c:axId val="6014769"/>
      </c:barChart>
      <c:catAx>
        <c:axId val="902420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14769"/>
        <c:crosses val="autoZero"/>
        <c:auto val="1"/>
        <c:lblAlgn val="ctr"/>
        <c:lblOffset val="100"/>
        <c:noMultiLvlLbl val="0"/>
      </c:catAx>
      <c:valAx>
        <c:axId val="60147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2420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AA90-C89F-431D-9ECA-26064F2C2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D614-5D8F-4453-BBAA-FF6F5D5A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0765-558F-44F1-8051-0EED7441A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60D8-9A04-4502-92CA-316A052B7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3C16-C098-4347-B75C-40232225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D5FB-B392-4086-9B5C-59DA109A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217B-1CB6-479C-86FA-73F37340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6D81-6EF5-403B-B1EB-21165D8A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FC45-5CD3-4127-B979-25DF9D75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A6DE-1A11-4AAF-B535-376C01EA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14ED-D9D3-46A6-A02C-BBBD232B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E5FB-6010-48F7-A3F6-479A9D20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8202E-C407-41C6-92CF-9369BBE637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