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31155"/>
        <c:axId val="53739233"/>
      </c:barChart>
      <c:catAx>
        <c:axId val="63931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39233"/>
        <c:crosses val="autoZero"/>
        <c:auto val="1"/>
        <c:lblAlgn val="ctr"/>
        <c:lblOffset val="100"/>
        <c:noMultiLvlLbl val="0"/>
      </c:catAx>
      <c:valAx>
        <c:axId val="53739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1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ABF-5A27-459F-9D7E-240135DD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678-7B42-41E8-B14D-46F7B1AD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F83-F9DB-4DBE-954F-8749ABFE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9A5-9748-4D7C-ACC2-FF0647C1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978-C2FB-4F7B-A5EE-DB9D91D8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B03-BB39-4484-BDC4-69FD7FB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9D6-5417-46B5-B127-18A0DCC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84B-39F7-46A9-BCB5-8C2A790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423-B72D-4B6A-A8C7-F99AEC91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243-2EBD-4F56-8FCE-796AE496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611-2B3D-41DD-910B-14EC371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738-866C-4245-838C-60740C0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BB428-C7FB-44CB-B388-C987421579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