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5676"/>
        <c:axId val="77238813"/>
      </c:barChart>
      <c:catAx>
        <c:axId val="4605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38813"/>
        <c:crosses val="autoZero"/>
        <c:auto val="1"/>
        <c:lblAlgn val="ctr"/>
        <c:lblOffset val="100"/>
        <c:noMultiLvlLbl val="0"/>
      </c:catAx>
      <c:valAx>
        <c:axId val="77238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5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C0E-E6FF-49E6-A844-36CF6880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4A4-AB9D-4B90-B82C-D3360950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64A-4D33-42E7-8C64-44F775F5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47D-D53E-4617-BBB7-C74085B5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EC3-51EA-45F8-B892-97436B12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5E3-AED2-4A84-8242-117CB357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83B-53BB-4017-A220-EE7FF754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A50-C2E6-4135-9692-556D4952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5E9-9A48-42BB-A292-7C0EDE2D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026-7E1F-49CE-A8EB-8BE20A9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F45-9589-4D90-8B57-4893921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527-ECCB-404B-ACF4-654B136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F358A-9EF7-4594-A753-BB31F94516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