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54E-9E03-45FB-9B7E-EB82DF79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EDB-F112-4731-91FD-5FE1908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9025A-0885-4875-B687-F5ABD436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CBE20-C132-48E3-8B2D-C6689845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83DED-174D-410F-8E8E-C506478A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8AD06-AC6B-40E2-9143-E644E9F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94626-2F5D-4084-86A8-131B07E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3487D-CCF6-4854-AE05-68C21564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F4343-B380-4112-9D93-6EA11665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8078A-8917-405E-B847-2294F74A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8F643-F870-4165-BD6C-CCBC4985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B34CDB-1262-42FB-BA29-554D540A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824-20C1-461D-AA22-2F846023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2698EA-29CE-43D9-A1B3-01C02948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514993-CE5E-433A-B90A-444454E8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0F5FE4-1376-4782-BD88-876933E7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EB35E1-BB3D-45BA-8D4E-0704FB26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DCE0B6-D601-468D-B3BA-DFDEEF0C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FA17CB-1018-429C-9929-B4CA337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723117-9D33-4D79-A945-C8DCD36E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1BEE67-6A8B-4BE3-8324-87DD6C2F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863D01-47DD-4533-9CE3-6E85A354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ADB2D9-92E1-4C8D-B999-BB299418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570-7FF9-4AFE-9E85-9D61F173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C774DF-F907-4187-BC4D-20BC1E5C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E11F8-7FA6-49EC-9D14-CE8DFFEC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B43F6-29BD-4A46-946A-E4D53C2E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6E126-8BF5-458F-A720-A655250A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60340-B04A-4573-BCA7-EA5C39C0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B96B8-FCB7-4929-AB21-0ADD77E3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9F35F-6596-4DEA-AD10-C96C0FD8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8637F-D96E-47F3-8FC5-85E842A7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7037D-4CEB-4D3E-AD3E-4183FF2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BD69B-323A-4EBD-90D6-1AA8538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1B72-F02F-40C5-8AF9-6C2B4E63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529E9-365F-4575-AE90-13EEE93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0D0AC-C67F-4C42-A7B1-B3C54B93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7A63D-5F48-4BC1-AED0-7A19ABD4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55326-EE1C-4ED4-B0BC-914DA3D3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E12B5-64CD-4BB0-B47E-8DCFE462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26BDF-9FBE-4550-83E9-6A37C6E5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A823A-1A72-468D-A4EF-4C0D7CE0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5AC26-7E77-4358-8E60-E0B8B9BC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2AC16-9A7C-4BC2-8714-0404CC9D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C705B-99EF-4EA0-B1EA-1AC8AE51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A4A5-3037-4FA4-B763-631207C6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E689D-0F32-459A-9484-9BF754AE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0ED8B-DB6B-4CE9-B1EF-E400572F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CC810-0196-4F0D-ABD9-D88EEC5C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0C9C9-5A3D-45F3-8751-5E45697C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54810-7F73-46ED-8BD5-4FD84DDE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FF9-71C6-4758-A5E5-9E9D14B1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1A7C-126F-456D-BD7F-D4DD440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9736-9480-4143-AF8B-1604F02A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9A01-3517-44B9-B7B0-42975D9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5712-DB7D-4326-B4F4-956E274D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9C4-F464-4552-9C3F-73BED0F4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A5B3-A053-483D-A1DA-630D3D2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98C8-98DD-4575-AC3E-26402E08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80A0-01B8-4DC4-880E-3DEBDA42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B297-11E7-41A6-A966-66268971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AA60-B1AC-4B5A-9A1A-0476789C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A4F6-52FA-422B-9BD5-CE9E200A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6717-8559-4CEC-8E75-8C4051FD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8BB07-7EB0-4C17-9866-08725522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F214-119B-4FAF-9FEA-B03D1A22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7773-6770-4C28-803A-8503B58A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345-489F-47B4-A912-C2CA4AA5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43D2-50E3-425E-86AD-D2C7FC5B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637F-AC68-486C-8ECC-41DB6BD9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3D85-AC33-4559-8A79-E35FB67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0B1DD-E61C-4E22-9E2A-3D67430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BC83-2DEC-46E2-8243-8A1D8269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7B31-D36B-4E86-8419-8C44BE66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636D-94F1-4E12-91C1-42DDC42E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C91E-9742-4395-8F57-09C24BFF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DD62-EB6B-49BC-9E93-63BE18B2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54CF-31EE-480E-9F58-243ECF0B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B3A-5BA8-4D93-BBD2-4B25B3A6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5AB8-7FF8-4C9D-8072-EDF70976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9646-58FC-4F66-8856-D252748B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EDB49-F478-4A6A-93FE-F31D5F82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7A82-23E7-4063-8640-AB6F2A1F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1CE3-A767-4A04-9F3C-FCE0F575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4334-B806-4891-B6C6-74DE0695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CDCC6-20DE-4746-B95C-016CA79E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CF34-AE4E-4882-8A05-D485D148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C3DA-070F-44FB-A44B-4D18110F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9E638-ED35-49E4-AB6B-6C19238E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CE8-CB4F-4C9C-91A5-2CAAC56F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E433CD-F638-49CF-813F-815BBDA1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21F19-50B1-40D1-A90A-B2421E7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96239-753D-4715-A9DB-CFAF61C1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837E0-15E3-4A78-82A6-5093F0F3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91BF3-5FF5-4899-AAAC-9FAE7D04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B7275-B2C8-4F9B-8CC2-02F80CBB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4DA06-10B5-4D98-93DA-FFAEC337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DB017-8C1D-4F59-BC0B-41A4CCF3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9A19B-218F-4DEC-9483-D203BEF8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32F73-C506-481E-B0F8-6ED900E6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A09-FC65-49EE-A603-84E5765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44FA8-DE03-4742-BCC5-93532839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C10B7-D70C-4AED-B9DF-341B896E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C488F-F554-4BC0-8DA5-5DFCC8D6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067B-74BA-457D-86C8-18BF117B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83214-039D-4E06-86B5-377D1355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1FC1-4777-425A-835D-550DEA75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EDA12-CC8A-4F89-936A-E86D32D5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3E61-31CF-489D-B014-289A6A2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71745-C9FD-4C7A-8AD6-5B4CE1F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061D6-D9D1-4957-AEFA-460A0199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724-5427-4C87-AD2F-CC367A78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A7B5B-5389-4615-9A28-DBE457E0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1A960-08F0-4E6D-9794-4E247A06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0EAF-2053-433B-9AE9-3BACA876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0BC4-69C0-4FEF-9D5B-C3D8B4F4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2EA39-9970-4146-A595-4EE10E7E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8DD61-6F0A-4B75-BEAF-DCB91E23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3D857-AD97-437B-8B1D-B3B93F42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35D3E-BE9F-4D6C-9543-CBBFFA7B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8D4AB-7B69-4110-B0BB-95684E8B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0CC1A-D559-4D59-B2AF-349B0B9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10D-085E-42F1-88DC-28777F3A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154AC-97EB-4030-BEFA-3DF169A6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D3A8B-8A33-4323-8813-7A69046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1E04C-4021-4286-8207-77C8AFC8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C88A-8C46-4DB5-B663-BCA338EA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EB9E4-7A8F-42CC-B6A5-A75FD320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F0EAD-95DB-4408-8B8F-DE0F0231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6FB39-BFFD-4EA5-9AF5-3F08AA5B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8C8E2-99F1-4D4C-87F8-1F545C4E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5647-1057-45B9-80BA-1BB2F72A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818A2-21D4-4027-8FFA-D8EB7632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4AD-1F8F-42AE-9E99-1B35B26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1D8E5-4624-4EBB-AE2D-59C31B1F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C853D-5AAF-4BD7-9F13-00DC63E8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A4D03-4874-4DB3-B31B-05D6903F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2E04D-6E1C-4390-8A6F-CAA26311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9CD1A-2288-4C06-AD08-703A271A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2C549-A2CD-4D41-A69E-4EFFB64B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F38BD-E139-4417-848C-996807E5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7861D-D6F7-4AFA-96DD-4AFE3642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C9A48-A405-49D0-95B0-19FD3957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C8575-553A-4C59-9693-27EE130F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17F-EDBE-4F29-9C37-74AAAF0933C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E23A-4B34-497F-8FF1-A39C55BDD2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30AC-CD79-4FE3-9F64-0DB8C4333B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D477-76E8-43B0-93F3-85F247810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D1FA-06DB-424E-915E-BE08E4C3ECE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029B-FD4B-4936-A06B-C1D10FA11C3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DF2F-B705-43A1-8B1F-76537574B7B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9D35-4E6F-4409-AC88-EB9B3D913C2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5B3-C363-41D3-9B27-2DBDFA2D657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7C9-5179-4D1C-A131-C79CB7BCB2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5420-148D-4767-A083-63BA0FCBE5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1A17-2EE7-4DC1-A1D5-AC906E921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C37-E9BD-4F72-A0D4-7C1DE6BC896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BDCB-9B7E-42FA-914F-BD939802A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820-4F4D-4276-B956-2532225446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3D1-D010-4AC1-A9FD-13BFDACE86A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09F2-5C20-456A-824E-42A34DFD458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46B5-4EC1-4F23-99D6-8F7F3B3998C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76AC-A08B-42AA-B07D-FB72140B00D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361A-9279-42D7-BB41-4F8B8714CB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6E56-07E5-44CB-B9B0-32D7DDB54F6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E900-381D-4376-A27E-AA7590D68D6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35A0-9181-439A-88B5-45684567BC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124B-B617-4E65-BFE7-124FB7F1B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478-E0CB-4B26-8A5D-E13750AD9C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404F1-B153-41CF-8B1E-06D9B9A5B52B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0DA8-4DB2-4578-9680-D153783AA1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0E7F277-0360-46BA-9234-C0C9D573171E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0152-6DEF-4C10-B0DD-836353AFCD1E}" type="slidenum">
              <a:t>3</a:t>
            </a:fld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34509-7006-42AE-A18F-5052163C5A5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D777DC3-FD07-4B24-81BE-33631844FBB0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8FA5D-F8F6-4F43-B5B2-BBF21D3866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B16B9E7-5F4C-491A-B836-C71B83E35A81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1D161-F398-4E45-8F1E-A02322940D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387F266-145E-48F4-89A5-715AC58D12A7}" type="datetime1">
              <a:rPr lang="en-US"/>
              <a:t>07/30/26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