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DC80E-4D1A-4DF0-BC73-4453B49B5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46B2A-BCD7-48B9-A71F-1CD989DC3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838A6-67E8-46D9-A5BB-B6E642548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3A2D0-0B23-4A42-A81F-D463F6966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6D04C-E394-4CC5-9018-40EC37E16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06470-6E91-497A-BDEA-7FA70859B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F9509-C511-452B-8222-15BE5C3A7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0D0FA-5956-4532-9C35-3F446F5D2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09315-1FF4-4697-ABB8-2120988A4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A8560-6B13-47B5-AEDF-D93288B85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6E4D6-5154-4B04-8E26-2C9EEF62A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DFB64-7C84-46A9-89FD-C0E1A970C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3370F-25C3-4686-A738-97BD2472D8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7120" y="1400040"/>
          <a:ext cx="6087960" cy="405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7120" y="1400040"/>
                    <a:ext cx="608796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4:23Z</dcterms:created>
  <dc:creator>Oliver Craemer</dc:creator>
  <dc:description/>
  <dc:language>en-US</dc:language>
  <cp:lastModifiedBy>Oliver Craemer</cp:lastModifiedBy>
  <dcterms:modified xsi:type="dcterms:W3CDTF">2005-01-06T09:24:29Z</dcterms:modified>
  <cp:revision>1</cp:revision>
  <dc:subject/>
  <dc:title>Slide 1</dc:title>
</cp:coreProperties>
</file>