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3C0-3DC9-48ED-974E-5C4561C6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299F-EA9A-439A-B88F-B0105F2C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C13E7-7847-4A37-A623-A215E0BA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5752F-4788-4E8D-95E0-E601C87B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B8A92-4247-4FC6-A213-6C27B1B5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4DEDC-864D-4707-A48C-0F160883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3831F-AFE8-4533-AEC7-16110F94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1A943-BE0C-49A5-A14E-64D14245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0B527-016B-49AA-A18F-3D6F8564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04E0C-204E-4098-BBBC-39C7AB5E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D9BBA-5824-4636-894B-5AB2D938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3C7972-0229-44DB-9C37-9FFF8B88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F4D2-99B3-4B7D-9BA5-5E89C6B2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85155F-49A2-4354-8194-598A14C4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6E5F4E-9C88-4918-9B40-1E73E82D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5F6425-D7D5-4FC5-8587-BFC15B5A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F8F532-96D1-4749-BD03-1A476AC0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A81CED-ABF8-4874-8093-B4604987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C8A213-0237-4C1E-B276-32AE24DA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A88C64-2AD3-4BB8-85DA-51BDE04E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5021A5-CFBF-4E97-91D5-C98F011B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6B5BD7-A948-4EF3-8CD8-07A7C41C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DAA34C-165F-468D-9872-A38389F4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84A6-E82F-45B0-BAC8-20D5EF2F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1D873C-390E-4476-8080-4936E9A0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3FDAC-4ED3-485A-98CE-2F3E9BC9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4A379-86AE-42E9-B75F-CE93F90E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E1162-3CA6-41D5-994B-BC1B74AB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95487-4A72-423A-B489-3C56E1C5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FCCF5-35D8-44AA-9727-930F7456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1EBBE-C451-4784-899C-B952F05F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B1E65-66F2-431A-84D9-46E4127D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942EA-9335-4AB7-9441-4F355E28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1E330-4376-49DE-97AE-E928F9C5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0581-FFE0-4B6B-83D9-D85C95B1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469B5-C0CE-41A4-9399-4121285F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09182-170F-4DC0-9117-93A9C119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87A9D-A10A-40DF-9277-4BF6B0C19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C3D8A-7BDF-4BD5-8472-3AD8E261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6B65A-A328-46B4-9E14-141D8DCF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09E5A-1FD4-4FA9-9BAB-9500C184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75456-EAD5-4C05-92DF-A054558B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83CC2-2E2C-49DC-957D-D6F42CE5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1E72D-9933-44CF-B781-EBF09EEA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EB25E-E9DD-4854-854F-CB69FD4C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D044-F893-44A9-B0CB-C87B70E4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67404-B24E-4C86-977C-BDBF6844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F1AE6-D8A8-43B3-94C3-24944737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73D8C-EC61-4785-9DDE-62BD61B8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77F29-E0F2-41F0-B5F0-2F049A01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64B29-A64B-4209-96F9-3E4D09A3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AF70-5E6D-40C2-B18B-30CA984C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0291-73A0-4599-8E1E-A977642D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35F2-476E-47BD-B28A-3D5FE903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53DF-395B-411A-98A9-BD30AF9D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99EE-B374-4B1D-B7D7-677F1119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F3E3-6252-41C2-BFAC-110D5F47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B512-A600-461D-A374-71E36F29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CD52-C4C9-4D22-806C-3E03EC68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358D-AECD-4E03-A390-38E51FA3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A64F-07C7-4B62-93DB-AFD1A267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6BA3-48F1-41D6-B2A1-424FE61A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84C34-17DD-4876-A580-C001CAC5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17FC1-4CDD-4456-971D-ABBE8984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4744D-5E67-4F26-9E7A-0666E664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C2E2B-3D5F-483A-89B6-C82DCFC1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DE1A5-8781-4EB5-B903-D3FDBBF7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8372-2770-47C9-A48A-A8A6F283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37088-69BE-42CB-BE94-932888A1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A80EF-4A44-413F-9A52-11B2F5C2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A11F6-6AA4-4CAE-8EF0-CB244C50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88C98-7D22-4393-A272-21B55898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AA5ED-9C23-44EE-B3B6-48B684B4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713D2-DC28-4809-893E-00AA91A7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D8972-A61F-45AB-BF91-D5DEA7D9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18B59-EA4B-4819-9E42-FAA95B52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BCFED-EFA0-4FCC-BE33-0C029A29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8927C-EDB8-47D5-B26D-377B4CB3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553E-8338-4A5D-A0F7-EB26DA6E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97C89-54D9-4DC2-9E34-1D841885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C216C-8F94-42C8-867F-3DD84EEC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DC62F-79C6-4A57-B9AC-C81D1829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AA8E0-098B-46D7-8788-1DF15469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3433D-9F66-415B-9393-132D8319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42B05-5D75-4CE3-8D35-0FC8E473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55E9C-70D7-4416-8B15-DC28C725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BC1C8-A5E5-44B5-AE99-5BA45C7B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71B67-04D6-470F-A9C2-0FBC5DEE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617376-85F2-4955-9E11-0833EDDA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1FC9-CCC0-4519-A49F-56D486B0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5091AE-D7F0-45C3-BD30-78F12767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2AEB0E-77A3-408C-965D-C5489142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4F0682-DFCC-48D6-ADC9-DDBD3D9E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2C2A36-63DF-458F-8C98-27813197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1B823E-A668-4DB8-99A7-CFDA2199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2889AD-4588-4144-B561-93C4E0BB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FFB9E4-8D9A-42F3-BB2E-1FBD99F9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E9D8A0-ED2E-42D8-9E34-74355265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A299D6-C5C7-4794-93D7-1F752A25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CBB8C0-70AE-4E6F-9E93-982F0F14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FB54-2EE4-4975-A38B-ED99D166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0BAEAA-3CB5-4704-9B10-2BDE5345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8A0B4-B4A6-4295-8EF7-BE8E280B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2E04E-2F18-4B56-A491-0F7BF006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72FB1-2A1C-42E5-88C8-F81CB55E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43054-3F61-4060-B37C-480D9E85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5E8E0-F7D0-4CC4-B8C9-C0D7AA62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00AB6-BAF5-47CF-A0F6-66EF708B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994B3-551B-457C-9497-1046176F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85C38-0705-4624-9303-EBABFF00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B2E60-F00F-432D-9130-FEB346B9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9E32-A4AB-4D6A-924D-8825D553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7AB07-8E5A-416B-A51A-7C945C86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BD3AF-24A7-441B-B623-6D3C83F0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A72E1-0230-44FE-BD89-43ABF55B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8CDF6-A509-458E-9D1B-22402FE0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881E7-2EF2-4E37-85AC-B289528A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02462-583B-4B20-B00B-CB58C1A6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185C8-97FF-44FE-B5BD-46762869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98624-C130-42B0-A4E3-F0360DCC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F0995-5D06-4BE2-B4CC-F7D13A6B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EB950-E370-4C4B-9374-7010DA28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3093-6E93-43D5-928C-0CF75028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B3D06-F9B2-4F96-9F9B-A0EF8BBD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4DD9E-EB4F-4D0F-A407-2A588B62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126C5-3222-47EF-948F-7ABE0C1D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2DECC-0B4F-43BC-AF6F-3B046CEC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526D0-5347-407C-B7C4-34D3F6D3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624ED-58B3-419D-8F23-22D13558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E1C67-AEB2-46E5-A652-A8EC124C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3A6BC-090B-4DD8-9883-D0669F94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37776-9508-40F9-A6F1-7BDE3338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D529F-3AB1-46F0-B194-BE7932A9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DEC7-F1BF-4DF8-B7E0-75250550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F5B86-C501-4D81-8B18-FF378642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F38DB-EF93-409A-B35C-B14F08CA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AFAE8-2740-4C32-AF11-79215960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B23C2-7C94-43E0-9E47-2505E3B3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0AB87-4092-4F92-BB0E-FE7DFC30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1ECDD-D5E0-4757-AA2B-C18AEF6FD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FE548-DC84-48F5-9DEA-44824FCA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1AAE5-8B48-46B1-BE53-0D7419FB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E36E6-E23A-4945-A42C-8697AF46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417B7-A2CC-4EE3-8D75-8DF95615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962D-2C5B-4AD6-94FA-59CDE72BD1D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48EA-EBD6-4604-BEA5-C91B604827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1B9C-13A9-4852-B610-77B74E79D15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AE4A-735A-4DE1-943C-EF00DFDA0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3323-63BF-46BF-8214-982C37A69E9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730B-F1E0-48EE-AA50-9CF160D06D5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4C86-1A31-46C2-9D42-0072BFC6B872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7886-70D3-4C87-BD58-AD194C3A251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C5F5-EA68-400B-ADB8-F51E0ACDE8D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AB32-6B22-4C71-B7E7-2E56AB5E92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0D30-18D5-4D05-8933-F78F966D9BF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FB1A-40E0-4B5F-BD32-770A73B3C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92F6-2C60-4824-8247-18FC127D05B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1ED4-7EE4-4AFA-9C93-A8AD63F0D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8412-78DB-4760-9D56-1C6E3573EF4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4D5C-27E9-4D48-A4F1-36F48AE5925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15F0-17D4-42F0-8806-3811D14A88A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A284-A50D-485F-BBD9-D5C51C4CEA7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FB2D-2774-49AF-BF24-DAF87B8531F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D875-F4AF-4BFC-88EA-A6617487BF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46B8-0343-4736-9722-B2658E6A06B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D51E-CAD7-4A6E-A60E-F3039B4FA50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967B-C44C-4EEB-AE9F-9ADBF7A4667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CC4B-B1D4-4950-AC46-3EC4CC79C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9A29-77FE-46EE-AADE-47F8B2B5D6D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ADD7C-727A-4AEC-A5D7-E0D9EB83D602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7AEA8-DBDD-4737-B74B-9094C503AA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51AF9351-D274-434F-840A-A823FF638EAA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5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5DFC1-B1FA-40ED-81E8-326E86D1A7DB}" type="slidenum">
              <a:t>3</a:t>
            </a:fld>
          </a:p>
        </p:txBody>
      </p:sp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E8C0B6-BD10-457B-96B0-BB8AEF363D4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492FD657-00DD-4D4E-B1A5-43FA66B74D7E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9FE0D-805E-4728-A686-E0A18841E4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8C5AC372-18BB-4462-A52C-BCCE78D9F9D7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482EE-5FC9-4CCE-A9A7-CE3B405F2CF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7AE0B8DB-99A3-4B7A-8EE5-580BF3B4B6A4}" type="datetime1">
              <a:rPr lang="en-US"/>
              <a:t>07/30/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