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41710"/>
        <c:axId val="75257162"/>
      </c:barChart>
      <c:catAx>
        <c:axId val="46441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57162"/>
        <c:crosses val="autoZero"/>
        <c:auto val="1"/>
        <c:lblAlgn val="ctr"/>
        <c:lblOffset val="100"/>
        <c:noMultiLvlLbl val="0"/>
      </c:catAx>
      <c:valAx>
        <c:axId val="75257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41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06A-B657-4971-AE11-2C061589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594-EAF0-4A29-B4AF-A2304F53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1DA-E45D-4BD8-8134-45004D01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D20-8318-455A-8656-14AB45BE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2D4-3469-4995-835D-D0557BF3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B9D-A4BF-4983-82C8-CFA73B69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991-4152-4647-A37B-D0B552D9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8E6-36BC-446F-82D6-3B82B0C0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AF1-B308-4A3A-887E-E6DDAE59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7BA-0C40-4120-9808-EC6B7122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909-2924-4B6B-91D2-A9E6809D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625-F87C-43B9-9F79-25FDBC90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27738-982C-450C-83B2-FB4579AC48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