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997892"/>
        <c:axId val="30262174"/>
      </c:barChart>
      <c:catAx>
        <c:axId val="589978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62174"/>
        <c:crosses val="autoZero"/>
        <c:auto val="1"/>
        <c:lblAlgn val="ctr"/>
        <c:lblOffset val="100"/>
        <c:noMultiLvlLbl val="0"/>
      </c:catAx>
      <c:valAx>
        <c:axId val="302621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978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AC40-D60B-43CC-A649-CA5338754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5C71-0B5B-4986-9064-3B36A790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386C-4452-42AE-80AE-E49E432D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8A5D-4CDB-436A-9CA9-A7EED2086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C18B-DE8F-4887-B66C-60A3A065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CCE5-C653-4D04-A18A-52F2B3E1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CF4E-247D-45C8-BD76-33AB1F18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9E11-DFD5-4116-9D73-06D1CA02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9BFF-4FC7-4991-BD8A-33FCDD82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3F9A-5517-4919-B01B-F09E3C79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3976-4285-4BCB-9552-D85C2356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39E8-FEDB-4D59-9DF4-E43B3A13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D4F9E2-15D2-4A1F-AC6D-A675EB6AB3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