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69100"/>
        <c:axId val="81205785"/>
      </c:barChart>
      <c:catAx>
        <c:axId val="12569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05785"/>
        <c:crosses val="autoZero"/>
        <c:auto val="1"/>
        <c:lblAlgn val="ctr"/>
        <c:lblOffset val="100"/>
        <c:noMultiLvlLbl val="0"/>
      </c:catAx>
      <c:valAx>
        <c:axId val="81205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69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FCA-4F23-4DC9-A11E-C7ACA8F2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656-4607-4195-A3C7-B95B539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130-4505-41EF-9AAC-FDA27E36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0AD-114F-4A73-AE57-8F83382C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C8C-823C-4AD4-8DFD-C4744D3E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308-2CB3-4204-9F5E-C446DC74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E78-12A9-4C95-87DC-1A363289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72B-9C3B-4389-8F0C-A8D5C7D8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118-4BFB-4511-B134-3C83FD2E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F0D-E1F2-44A6-A4A0-7B1CFDA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8B8-D9A7-45BB-9362-84D6477A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60F-FE20-453C-96A4-869E1F0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5B23B-6C45-4154-A9C1-1B448FA3F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