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68556"/>
        <c:axId val="4362459"/>
      </c:barChart>
      <c:catAx>
        <c:axId val="88868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2459"/>
        <c:crosses val="autoZero"/>
        <c:auto val="1"/>
        <c:lblAlgn val="ctr"/>
        <c:lblOffset val="100"/>
        <c:noMultiLvlLbl val="0"/>
      </c:catAx>
      <c:valAx>
        <c:axId val="4362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68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5E7-4B77-4D2A-80DC-D69828C9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B3A-0D31-4ECC-B3C3-86FCA370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C37-E98F-4F81-8E1F-5E879FDC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0E0-7E0E-4758-A753-E9A29FE0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F38-89D7-41D0-B555-BBF5C209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E0D-ABE3-4F5D-A609-AABF46D2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E46-1C10-4A9C-975B-2D04975B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F5E-B3A9-46E0-80AC-8DDB7682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D72-FC07-408D-9651-D0638740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46B-20EA-40A2-B89F-70B6528A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7DA-E1FA-4BFE-A96B-54F45387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E86-621D-4B9E-8A73-E0DCDAB5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3AB82-8F5D-4537-8F09-77C5ED2285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