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02155"/>
        <c:axId val="67708601"/>
      </c:barChart>
      <c:catAx>
        <c:axId val="38302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8601"/>
        <c:crosses val="autoZero"/>
        <c:auto val="1"/>
        <c:lblAlgn val="ctr"/>
        <c:lblOffset val="100"/>
        <c:noMultiLvlLbl val="0"/>
      </c:catAx>
      <c:valAx>
        <c:axId val="67708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02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2C6-862E-4700-8D39-980508E7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BA0-0829-48BE-B13B-0C3CFF2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163-8588-4359-BFF0-4DC82EF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6EB-A98E-4773-A1D9-6F79E97E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0AA-C363-4B29-9C86-EEFD600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D7A-89F9-4A95-B26C-A48213D6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377-8C96-4DF6-97FB-E032866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D0F-DA5F-4E75-9E94-FBA7A5D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84D-92B7-44CE-BF65-DAAA599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B53-961C-4FBB-A97C-202C979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4C2-2570-4CDE-AA97-D495010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243-5BAC-4B90-8FE1-AE2B5EA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04664-0816-43A6-B6E4-99DE488AF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