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92482"/>
        <c:axId val="10159945"/>
      </c:barChart>
      <c:catAx>
        <c:axId val="25692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59945"/>
        <c:crosses val="autoZero"/>
        <c:auto val="1"/>
        <c:lblAlgn val="ctr"/>
        <c:lblOffset val="100"/>
        <c:noMultiLvlLbl val="0"/>
      </c:catAx>
      <c:valAx>
        <c:axId val="10159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2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FE4-9902-4018-ADD4-925165F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9D9-7D98-4848-806F-D1C6F137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79A-F52A-43C4-8C58-3BFB857A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398-1364-4476-91CD-EFF71C44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E0E-5902-4A7E-B1B1-DE08FE8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302-4FAC-4655-AD6F-E284C46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038-2E09-42FD-8DF3-F2D09DB0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7E2-F82B-4F43-AAC4-301689C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549-9356-44DB-9841-BA3183B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17F-DDAF-41BF-9BAC-54FCB22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D7B-E2D9-42DA-8345-9F41713E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FA0-395C-4F16-82BC-8A221B5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206B7-5C74-4D9D-8B29-694C5014C0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