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35584"/>
        <c:axId val="78225397"/>
      </c:barChart>
      <c:catAx>
        <c:axId val="836355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25397"/>
        <c:crosses val="autoZero"/>
        <c:auto val="1"/>
        <c:lblAlgn val="ctr"/>
        <c:lblOffset val="100"/>
        <c:noMultiLvlLbl val="0"/>
      </c:catAx>
      <c:valAx>
        <c:axId val="78225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355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02C-90C0-4887-8949-7E5D9226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E31-2450-4622-AF81-FF9ACD7C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ABB0-CD5F-4835-A356-B3936486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555-3174-468C-B98F-55EF3853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374-B0AB-4E0A-B384-9AF64B4F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3C5-EB60-4CCF-AFCB-601FAFDF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71A-DEAF-413D-BA6F-AAD93014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742-2F79-426F-B981-5A9C2131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D7C-AB8C-4259-9396-0D709931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30F-901F-443D-AAF2-C0043399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C14-CB4A-47D5-ADCF-D6696157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CF1-9A51-4E78-AF57-B79EC4A5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C7610-12FF-4903-81E6-5EF762C42E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