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53"/>
        <c:axId val="113792"/>
      </c:barChart>
      <c:catAx>
        <c:axId val="38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792"/>
        <c:crosses val="autoZero"/>
        <c:auto val="1"/>
        <c:lblAlgn val="ctr"/>
        <c:lblOffset val="100"/>
        <c:noMultiLvlLbl val="0"/>
      </c:catAx>
      <c:valAx>
        <c:axId val="113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5E4-596D-41E2-B671-D4ED9B6F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F88-186C-4EE9-9EE3-9DB8EA44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859-8C6E-4084-9A86-A8169945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5DA-75E2-4393-BDE7-827B5E0E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E13-CA71-4387-A2A8-52949C5A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8B6-2996-45D1-B82F-43E42891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EDF-CA87-4083-A26E-71020EC1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80C-B58B-471D-97D2-B5C65AD0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520-7EF2-4CB1-ACD7-82915185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E71-CC02-4248-BA75-0327521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4D5-0123-4061-8F18-66EC6FB1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5FC-407D-4411-B137-32210FFA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E7C18-3416-4CAE-8876-DC5C36D197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