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351017"/>
        <c:axId val="74864459"/>
      </c:barChart>
      <c:catAx>
        <c:axId val="64351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64459"/>
        <c:crosses val="autoZero"/>
        <c:auto val="1"/>
        <c:lblAlgn val="ctr"/>
        <c:lblOffset val="100"/>
        <c:noMultiLvlLbl val="0"/>
      </c:catAx>
      <c:valAx>
        <c:axId val="748644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51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3EB7-E02A-43BD-88A9-4BC158D3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F67-A6B8-4C1B-B025-5FC97F08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3B5-51D4-4B40-A5C4-7CB08CE2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70A-43B6-4DC7-B72A-136CC837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104-E680-4B86-8E23-5A707FF1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0EE8-8B2D-4316-8C61-7ABE1A84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AC96-8275-4755-ADBF-4E34E3FC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B1FA-F191-48C4-B60D-B0520C67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F8FA-D07A-4C34-975F-2EF58BD7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4F46-EDFC-4725-933A-5F6A3310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6DC7-42A5-4C8C-BB4E-0D500985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53D9-68A5-44F5-BF08-EFCB2842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60EA21-9FF8-428F-AB33-37EAC8863B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