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571159"/>
        <c:axId val="92626171"/>
      </c:barChart>
      <c:catAx>
        <c:axId val="375711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626171"/>
        <c:crosses val="autoZero"/>
        <c:auto val="1"/>
        <c:lblAlgn val="ctr"/>
        <c:lblOffset val="100"/>
        <c:noMultiLvlLbl val="0"/>
      </c:catAx>
      <c:valAx>
        <c:axId val="926261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5711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C9EC-8522-4B99-ACD3-3E26571AE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03A1-DA06-4D13-8F25-21844C65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5D43-7E00-4913-B9E1-E6E2C9315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5D66-E145-4CBC-AFA0-ABFD435F5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92E3-B2A4-4495-853A-7280CDE3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7800-F214-47FF-8B82-15D475F0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EDE1-175B-40C4-9A31-B86EC914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1B73-3CF1-4D50-ABF9-30258E6C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CF5C-CE6A-4C8A-9192-F6721915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97C4-B6BD-43DA-A2EC-C657E500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90D1-D356-43E0-A7C5-3C684C7D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1EB9-7FC2-421E-B888-0890DD45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E409F7-789B-49AA-A5FB-EC9D815DD8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