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91462"/>
        <c:axId val="23545302"/>
      </c:barChart>
      <c:catAx>
        <c:axId val="96091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45302"/>
        <c:crosses val="autoZero"/>
        <c:auto val="1"/>
        <c:lblAlgn val="ctr"/>
        <c:lblOffset val="100"/>
        <c:noMultiLvlLbl val="0"/>
      </c:catAx>
      <c:valAx>
        <c:axId val="23545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91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B67-1140-4D02-9FD8-41E17930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27F-7ACD-4709-9B46-E35F147F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C9C-6409-414A-8D02-2D64DD5C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C0B-7F4B-4BF9-900E-B0A42B0C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101-165B-4D1E-9169-DF496429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0DA-7FAE-498F-96F5-3EFC51A7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23E-7989-43DF-8E37-8AEA37DA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3E9-368A-4BF9-BF8B-C69746F6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479-82CF-49EC-9E9B-E9788C5D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ABA-E63B-4241-AEDE-8B257E8B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836-7FBB-464E-9AEC-5070AB0C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79A-4754-44B6-A821-D1D21526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27EB2-8B4E-4200-92EE-69FD9E3E62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