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49320"/>
        <c:axId val="6428432"/>
      </c:barChart>
      <c:catAx>
        <c:axId val="59949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8432"/>
        <c:crosses val="autoZero"/>
        <c:auto val="1"/>
        <c:lblAlgn val="ctr"/>
        <c:lblOffset val="100"/>
        <c:noMultiLvlLbl val="0"/>
      </c:catAx>
      <c:valAx>
        <c:axId val="6428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49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A1F-5DEC-413D-BAE3-94473BA9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7BF-98D5-4806-A0E8-5A2691D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588-BE8B-45DA-BCCB-C3BDE93B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141-332C-4932-B14F-E8B13FC8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62E-7780-489C-88F8-7FA14212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B27-47D1-4E7B-B157-807EA190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5F2-9992-4E97-924B-84EFCA7E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B70-21F1-4332-9227-1E9D0CBF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C54-0B03-4701-99A3-39AC9B4C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326-EBF6-49A7-A8FD-853054E2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2F2-BF70-424B-BBC5-AD8D3384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D88-18B2-42BF-88BD-7170157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B20A5-72F8-4A31-BE16-5BCD0294F3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