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32783"/>
        <c:axId val="80679265"/>
      </c:barChart>
      <c:catAx>
        <c:axId val="85732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79265"/>
        <c:crosses val="autoZero"/>
        <c:auto val="1"/>
        <c:lblAlgn val="ctr"/>
        <c:lblOffset val="100"/>
        <c:noMultiLvlLbl val="0"/>
      </c:catAx>
      <c:valAx>
        <c:axId val="80679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32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053-FFF5-4ED0-96FD-10680AD0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C5E-6346-42C1-8871-D48B3109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0EC-A704-4E21-82F7-FEAC4E90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02B-18EC-4B1D-B3F3-DB3DF07F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81E-40C5-404D-A0BE-B5825911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D89-3C84-49EE-AD9E-C402BB67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EE2-33D3-4627-8D56-98A99F5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6E1-7E6E-491E-A108-DC82C430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E21-C9F0-4573-A849-94F831A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BC3-CD44-4BEB-901E-7297F017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7E1-A6BE-4D9C-B410-7E9F00EE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6ED-CDD8-493A-A87C-C34CAC5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AB42C-3A79-46C0-9517-C80236E7EA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