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331974"/>
        <c:axId val="13739717"/>
      </c:barChart>
      <c:catAx>
        <c:axId val="123319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39717"/>
        <c:crosses val="autoZero"/>
        <c:auto val="1"/>
        <c:lblAlgn val="ctr"/>
        <c:lblOffset val="100"/>
        <c:noMultiLvlLbl val="0"/>
      </c:catAx>
      <c:valAx>
        <c:axId val="137397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319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E830-243C-41A0-AD58-7C73DFA1B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6C8C-B872-4170-9CF4-365AF021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AA74-6A42-4619-B0E1-45A94F5A6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2A56-8B25-40CF-AFDD-D4BC62567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095E-1B5C-4F8C-9862-4B7DD4DA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5BEC-9E3E-4AEA-B1E7-9F693D19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D9CF-B87A-4764-8748-62E3E8FC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1415-D55C-4CE2-B630-E19606B9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9AE4-2AB5-449D-9889-6E2E8323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473B-1FB0-45A3-99A5-C1804874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F4B1-DA5E-4162-8FF2-B5CFBA58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FB24-F601-4ADA-A842-3B0727F2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0209A-13ED-4D06-B179-FE74C45B77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