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90235"/>
        <c:axId val="70097053"/>
      </c:barChart>
      <c:catAx>
        <c:axId val="63190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97053"/>
        <c:crosses val="autoZero"/>
        <c:auto val="1"/>
        <c:lblAlgn val="ctr"/>
        <c:lblOffset val="100"/>
        <c:noMultiLvlLbl val="0"/>
      </c:catAx>
      <c:valAx>
        <c:axId val="70097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90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5E1-C90A-4135-8E73-0DF2B7C2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C9D-5F65-42F0-9BB6-19021E5B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A59-72A4-4345-BB10-3581EF34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910-EC12-487C-996B-CB3ED43B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D8F-9446-4076-9461-AC72D55B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FA6-8CBF-4985-B10F-04DCA938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109-D916-453A-A01F-DB3BA83E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5A2-CF1F-47DB-B0C1-373ABBD1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4AD-E53D-4A42-B884-1A58E958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F6B-13AB-4BDB-BAF8-A01393F7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7CBF-BF82-43A0-8C10-E7FB5881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7BB-DEA2-4CD8-ABC9-58403007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D1406-154F-451A-B26B-9E3A836685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