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453430"/>
        <c:axId val="94766136"/>
      </c:barChart>
      <c:catAx>
        <c:axId val="884534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766136"/>
        <c:crosses val="autoZero"/>
        <c:auto val="1"/>
        <c:lblAlgn val="ctr"/>
        <c:lblOffset val="100"/>
        <c:noMultiLvlLbl val="0"/>
      </c:catAx>
      <c:valAx>
        <c:axId val="947661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4534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BE6C-3720-4E22-A525-922CA26E6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39AF-3D84-4DB8-B441-50CC1630F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9D64-6FFA-4237-B0E3-82672432C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E1C7-8E9F-41A6-A6BE-72626D53D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0F4A-8096-45FB-9E4A-4ABCE062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7911-6F79-400E-B480-0785D2D6C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51FC-77CA-471D-B950-65A6C5DEC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0F22-08EB-4D1E-9F49-EFE1C23A9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F80C-39D4-47BB-AD61-6973A0772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BFBD-A623-4C7C-BE8A-3DF3DB59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B780-CEB0-4996-8B3C-BDC737EE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9334-B062-4F3B-9825-29FA951F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15D519-74E6-4EB2-9DBA-F332B522E6F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