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13725"/>
        <c:axId val="30514414"/>
      </c:barChart>
      <c:catAx>
        <c:axId val="93413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14414"/>
        <c:crosses val="autoZero"/>
        <c:auto val="1"/>
        <c:lblAlgn val="ctr"/>
        <c:lblOffset val="100"/>
        <c:noMultiLvlLbl val="0"/>
      </c:catAx>
      <c:valAx>
        <c:axId val="30514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13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6ED-4A10-418E-AAB9-0D0952B8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52E-55C9-4743-A17A-FEBFC494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10C-DED6-410D-8516-FE70F00B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E93-90C0-41DB-960E-80F647C4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874-971E-4497-BEA0-3AD9CE23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1CF-7D00-410F-85AD-20AC86A3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EA7-C3C6-4D45-B0B3-5EECB552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B0D-7F3A-49E6-BA62-D3120CD1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99B-E1EA-4C62-88E5-F0E0183E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00F-0659-4475-A61A-BF107419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953-E97F-4747-B34D-FADD3999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543-2D5B-4774-8CB3-650865A1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E0D09-F16A-4615-9714-2D94281A45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