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3F96-2232-4BB4-B313-6993B42F4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31EC-29AF-46D1-876C-87392E1F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5C68-FD30-44E4-BF08-E0D1DFC60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9BAC4-B9D4-40BB-99FF-4E49246B4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847-703A-445D-89C2-72E311524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C35-5F33-400C-8DC8-612D62428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9BA61-BEAA-4E8A-8B6F-64E4A4F5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6E76-529F-4DE2-BA55-004F04EB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9AED-4F1D-4BD9-80B0-70027746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A0A5-F646-498F-8155-4F20698B4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D063-0626-4C3D-B5EB-EF27E27AF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D74B-A316-4C6D-AE0D-D60F2BA49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2EC1B54-A3DD-43A0-8051-5731FDD2CE2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FE5303-461A-4514-B3FB-AC06852E68A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hrome te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ome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21:58:53Z</dcterms:created>
  <dc:creator>Deepak Gopal</dc:creator>
  <dc:description/>
  <dc:language>en-US</dc:language>
  <cp:lastModifiedBy>Deepak Gopal</cp:lastModifiedBy>
  <dcterms:modified xsi:type="dcterms:W3CDTF">2010-11-24T21:59:21Z</dcterms:modified>
  <cp:revision>1</cp:revision>
  <dc:subject/>
  <dc:title>Chrome test</dc:title>
</cp:coreProperties>
</file>