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99337"/>
        <c:axId val="56821728"/>
      </c:barChart>
      <c:catAx>
        <c:axId val="39399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21728"/>
        <c:crosses val="autoZero"/>
        <c:auto val="1"/>
        <c:lblAlgn val="ctr"/>
        <c:lblOffset val="100"/>
        <c:noMultiLvlLbl val="0"/>
      </c:catAx>
      <c:valAx>
        <c:axId val="56821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99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73A-D41E-447B-A276-F1CC7C90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031-C5F9-4989-A83B-861F76B4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65C-0A71-4CB9-A426-D28CD0BD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068-B3A7-49AB-A83F-8A50DDB0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2D4-7DD9-4004-AD53-85819C9E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ABA-D08C-4B89-88C2-8D14645F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C65-301D-4280-96FF-D4E0BF8F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A98-CAD7-4FDE-987F-6802B043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ECC-8A0C-43E1-AA68-68329970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342-11D4-47D4-BB68-0F050EDC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E72-AF7E-437D-A65D-2E6B26B9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917-27AC-47D7-A466-A34177D2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70FA4-D57F-4472-9C88-3B0DDF054E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