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47105"/>
        <c:axId val="50341101"/>
      </c:barChart>
      <c:catAx>
        <c:axId val="38047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41101"/>
        <c:crosses val="autoZero"/>
        <c:auto val="1"/>
        <c:lblAlgn val="ctr"/>
        <c:lblOffset val="100"/>
        <c:noMultiLvlLbl val="0"/>
      </c:catAx>
      <c:valAx>
        <c:axId val="50341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47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5A2-575D-4A02-BC39-6B7F0673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A20-0443-411F-9865-2D185987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7BA-51D9-499A-A3E8-0033A4CB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26A-EFAB-4F26-BBEB-E1FF31B2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E92-10BA-4D13-B4D4-5523935D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235-D26A-4959-9120-D3782CE7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DC8-0F95-4FA5-9AD0-5CAAE388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1E3-01C8-4C5E-A41F-FDF2C8AF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0BD-8A2A-41CE-A2C0-3C892E88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D99-7D3C-4B19-B89A-8B94BEAF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F2D-5E97-4902-A75D-65FC2EC6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E45-09D5-4BB7-B874-8A0B1A0A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18A2E-D8A1-4895-852E-B61301A6F7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