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89570"/>
        <c:axId val="25743501"/>
      </c:barChart>
      <c:catAx>
        <c:axId val="22689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43501"/>
        <c:crosses val="autoZero"/>
        <c:auto val="1"/>
        <c:lblAlgn val="ctr"/>
        <c:lblOffset val="100"/>
        <c:noMultiLvlLbl val="0"/>
      </c:catAx>
      <c:valAx>
        <c:axId val="25743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89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40A-1709-47A2-A356-390A521C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A58-2ECC-4BD6-BF60-B8CC6742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73D-BCE1-4DA1-BEAB-4529636D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0B2-19F4-4E9B-8FE8-A65B56C2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494-C1C5-4714-83D3-5E12E069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804-D62F-416A-9F76-D0B8971D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D35-F4C3-413D-92B6-F2E7F0BD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447-A668-4B3D-8550-6FB5A85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EAE-F8C1-4333-804F-33F9C6FE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9D3-8CD5-4337-863B-93458438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7A5-70B8-463A-B2BC-3F9B8EF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405-F35F-4AB6-AC2B-307835D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1F58-F577-4E8E-AC30-45293009B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