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41840"/>
        <c:axId val="65439507"/>
      </c:barChart>
      <c:catAx>
        <c:axId val="59841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39507"/>
        <c:crosses val="autoZero"/>
        <c:auto val="1"/>
        <c:lblAlgn val="ctr"/>
        <c:lblOffset val="100"/>
        <c:noMultiLvlLbl val="0"/>
      </c:catAx>
      <c:valAx>
        <c:axId val="65439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41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830-4F67-424F-8EDE-2FBECAC2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657-323B-4166-88F1-83BC87CD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310-3DA6-488D-9179-66993896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21C-51B0-4060-84E6-80F1B47D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0A9-ED5C-4D96-8368-7BB6E116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0FD-61E4-4B02-AE9E-886A3D86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604-AC00-44F6-B521-0B9DC1A4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F9E-DF6A-4C2F-A2DB-2405F0A3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A12-57A0-4228-A019-04E91AC5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728-8BB0-4639-BF86-CC8BE1B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7E2-CC45-47C2-BC01-381F438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FE3-39B5-465E-BCA6-276BF67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6E8CF-7343-48EE-A426-A6836D8613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