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382639"/>
        <c:axId val="35816337"/>
      </c:barChart>
      <c:catAx>
        <c:axId val="133826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16337"/>
        <c:crosses val="autoZero"/>
        <c:auto val="1"/>
        <c:lblAlgn val="ctr"/>
        <c:lblOffset val="100"/>
        <c:noMultiLvlLbl val="0"/>
      </c:catAx>
      <c:valAx>
        <c:axId val="358163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826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DC1E-9A5D-471B-B0AE-B597B3FDF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D0CB-B918-4F0E-93D7-279961BC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1C60-D72D-4EB1-B292-F3CE21954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C55B-EF6A-4E0D-9DA7-EB76D372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73B8-314E-4807-964F-D6A7B7AE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ADA0-34E9-4A48-B88C-48A2F6A2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1687-8CD5-4575-8DA9-BE2E0BD6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02EF-F4BA-481C-9A96-7FD5E20C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6083-4FFC-4CCB-B5F2-5A528386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9EDF-F593-43D8-B2AF-F04D11AC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8633-7919-49E8-97B8-75EEE76D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2898-8A3E-425B-9348-5CD2F63F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92975-940A-40FE-B409-D45856C6C5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