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0913"/>
        <c:axId val="61655138"/>
      </c:barChart>
      <c:catAx>
        <c:axId val="6070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55138"/>
        <c:crosses val="autoZero"/>
        <c:auto val="1"/>
        <c:lblAlgn val="ctr"/>
        <c:lblOffset val="100"/>
        <c:noMultiLvlLbl val="0"/>
      </c:catAx>
      <c:valAx>
        <c:axId val="61655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0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481-4121-45B8-B0B1-50D83A00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063-9D79-491A-9A4D-A8ADC67F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647-E777-4F00-A111-B28064AF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E9E-BE7E-4EA0-B086-1BE781CA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C28-6B1B-4601-AB32-45326E88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60E-2EAF-4C87-B4FD-652E3276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BCA-CC1D-48BF-88D8-E3F5279C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398-7904-43A1-BCCC-C3422F48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D0F-E0D9-4F74-8B65-3D72C052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234-02CA-4580-8617-30CA0BEE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EA9-D3F8-4E23-BDDC-0539C98A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056-5910-4FFF-87DA-030E0BC5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83034-E213-4988-BB0F-2DC7440201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