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60781"/>
        <c:axId val="35244897"/>
      </c:barChart>
      <c:catAx>
        <c:axId val="81607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44897"/>
        <c:crosses val="autoZero"/>
        <c:auto val="1"/>
        <c:lblAlgn val="ctr"/>
        <c:lblOffset val="100"/>
        <c:noMultiLvlLbl val="0"/>
      </c:catAx>
      <c:valAx>
        <c:axId val="352448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07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F9AB-D96A-4D22-9B48-A7D9C255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8F3E-53AD-4E4A-9986-41AD25E3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4F41-0798-4437-B281-009ACAF2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39B-3D6A-465E-ADF7-225BF3E6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B212-FADA-480B-9967-A0E0B4ED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E5C7-0AC5-4602-BC35-BE282736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4AEC-268D-42E3-8CBB-7CC95DA6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068A-580A-4AA7-A8E4-F0CBFC40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D54-8D2A-4C84-8E1E-1D3A3BE7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8ACD-E730-4523-97BD-32BABFB3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F8DE-7B26-40FF-BFA8-24AE98CE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5FD3-F04C-4061-98E2-B476674D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7B00D-AEBB-4FAE-8F02-32659274E3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