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8956"/>
        <c:axId val="64242310"/>
      </c:barChart>
      <c:catAx>
        <c:axId val="28588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2310"/>
        <c:crosses val="autoZero"/>
        <c:auto val="1"/>
        <c:lblAlgn val="ctr"/>
        <c:lblOffset val="100"/>
        <c:noMultiLvlLbl val="0"/>
      </c:catAx>
      <c:valAx>
        <c:axId val="64242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8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223-F0D1-4750-AD20-79D4890E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CA4-1ED4-4455-8733-C832A676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31E-BD46-4004-9854-61ECDDFF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640-CB77-4041-80FC-CB9043A4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65F-5C15-4457-9B27-8A2700F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344-E20A-4887-96E5-CD7F753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B67-A617-454C-BBC2-0FB6ECF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202-683E-4B80-BD3A-54DA1FE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D7C-C6A7-48FE-92D1-D23F8BA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42A-9320-4501-8FC6-F69A4BA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F9C-2429-44A3-A9AE-FBE08C6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312-E9C7-40A6-9F9E-8B71FC8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2A5B5-71BB-471A-93A9-ADE886C770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