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2436"/>
        <c:axId val="74847353"/>
      </c:barChart>
      <c:catAx>
        <c:axId val="47324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47353"/>
        <c:crosses val="autoZero"/>
        <c:auto val="1"/>
        <c:lblAlgn val="ctr"/>
        <c:lblOffset val="100"/>
        <c:noMultiLvlLbl val="0"/>
      </c:catAx>
      <c:valAx>
        <c:axId val="748473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24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47B6-E2D7-4E7E-8417-0FE3C88B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D280-BBB9-41EE-8BE2-3224033F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848F-980B-4F56-8178-1209DD6F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2147-4853-442F-AEAD-0EB35C5ED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4D79-7C04-42E8-A169-923AE138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6B47-CD13-46B5-BBB8-6CFC74C9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A0F-F714-43CD-8DE8-6267D6C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53C4-0360-4041-A6CC-68AF22C3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168-976F-4A9F-931B-C98F9390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B08-58B4-464B-AACD-D48590BE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349-13DE-44D1-BE27-7A7072FA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2862-2C61-4782-BF00-E6CE4CF3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30916-D129-44FF-9E44-3B0841C21C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