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79096"/>
        <c:axId val="97685586"/>
      </c:barChart>
      <c:catAx>
        <c:axId val="640790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85586"/>
        <c:crosses val="autoZero"/>
        <c:auto val="1"/>
        <c:lblAlgn val="ctr"/>
        <c:lblOffset val="100"/>
        <c:noMultiLvlLbl val="0"/>
      </c:catAx>
      <c:valAx>
        <c:axId val="97685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790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2869-F4F0-4D6F-A7DB-E05728CA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D9E-D859-4B6E-9D23-F659DF4C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CA7-4EE1-47ED-A3BB-F2D6EECD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F4A-D873-4B55-BD53-6D450AA6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32AC-584D-422E-B659-A1AB267A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62FF-75C4-481D-B864-4ED79640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7C0-9482-4613-803A-AD9308B1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82E-DE07-4F68-BCC5-DBE316FB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628F-BA2C-4E92-AA68-BC81DCDA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8B4-6DA7-47CE-8585-70F5EE1F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270D-8B8D-481D-AE96-1ECED2E8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2E2C-D199-46A4-AF29-43D557A2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67FF0-8BA1-4300-A209-09CD06DED6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