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2640" y="685440"/>
            <a:ext cx="45687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3B1D85-BB15-48B2-8416-D21C51531835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017CC-DF26-445A-98F1-757469EC3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C249D-C158-4DEA-8C30-20A3A0622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55F89-60B8-48D4-8C41-571D19ECC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200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92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200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92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CE042-EDBC-41DD-A4C7-B186553A5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B5734-26FF-4A96-A7EE-C08E02ECF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035B5-1AE0-47DC-9502-525A0E866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6E038-6AB6-4805-A67F-3F8C22AD5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2B03F-2451-4F9C-A981-0FF61FA2E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B8012-F523-42A2-B9F4-84C74279E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6D40E-D5AA-43BF-8ABF-71FC7EDD8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795B1-DCA4-404A-917F-31A6BFEB1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F8D48-5256-4B80-9936-F446F3F31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1800" indent="-27180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91840" indent="-2260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28016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3A331B-B5AC-4D5F-A174-DA7109A9863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258920" y="836640"/>
            <a:ext cx="66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NEW MODES OF GATHERING SURVEY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195640" y="2781360"/>
            <a:ext cx="50403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ELLULAR PH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24000" y="189000"/>
            <a:ext cx="8496000" cy="6408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uan Díez Nicolás</dc:creator>
  <dc:description/>
  <dc:language>en-US</dc:language>
  <cp:lastModifiedBy>NickM</cp:lastModifiedBy>
  <cp:revision>0</cp:revision>
  <dc:subject/>
  <dc:title>Sin título de diapositiva</dc:title>
</cp:coreProperties>
</file>